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055-9BF6-4B5A-8CC0-742B4D42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B38-5728-4F69-A94E-E63FF958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7B7-3166-4DD5-BD63-05007F44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7DA-F110-44F8-9755-FD8E2CFC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63E-3EF7-413F-8441-118228EF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90A3-2652-4118-8A5F-314C690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AF2-1F24-4206-8224-04885B59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A01-F0E8-48C2-AFB0-FB51672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ABDE-EBF6-4B41-B612-B6B80FC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DA5-7140-455A-8478-C7E9FCF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32DB-50DD-409D-B22E-4CEECE66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911-690A-4BCB-8C46-A7C8FF49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9A1-968E-4229-90AF-26D1EE1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8A4-7098-4460-9BC1-8EF410E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7E0E-4598-4563-8C80-FD0FF48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7CDA-3E44-4954-BC37-7A2B6A68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6DFA-2B6E-4815-B710-A793A6B7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3D6-C1CB-4A99-B2C3-5802FC2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B29-80C9-4A2E-B05F-3D1BD6F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44E-414D-4704-B958-4840098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A70-1C1C-4224-A875-B0A3BD5D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AF5-317D-4F4C-B3AE-46762D4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561-3082-444E-ACC2-E5B7801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1C2-AEB9-4F9F-B749-AB3920AD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E4A8-8724-4064-A4C4-E77FBE6DC5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43A2-1901-458D-A628-863743E2DE9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W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n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Crook and Flail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I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Taylor O'Brien</cp:lastModifiedBy>
  <dcterms:modified xsi:type="dcterms:W3CDTF">2009-01-14T21:02:33Z</dcterms:modified>
  <cp:revision>9</cp:revision>
  <dc:subject/>
  <dc:title>Egyptian Pharaohs</dc:title>
</cp:coreProperties>
</file>